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5DB-C273-48B5-BF50-CDA48C88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6A7-41AC-4EA5-933C-3614B82B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C7E-31FE-4EFC-AFFA-0F3C0F1B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888-5D3B-4E9B-A893-7CDCD0D9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8BA2-5869-48A4-8A69-C22CA85E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1000-AC2E-42CC-9429-19B835D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8C8-3FDB-4C39-9C69-CFB8F11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765-1E0E-4D9E-AEF5-90345A7C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F10-5F93-4927-B386-1D80AEC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35EE-B2EB-4907-88D1-848A7153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B1E8-CFBC-4B14-9A72-F3C1E10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BB8-99D6-40ED-8D12-62DDE02D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AE48-2CA8-4BCC-9583-87D5839E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518-A246-4AF0-80C0-7DAB95E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D9A4-7C6F-43F3-82F9-3D869187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E7D5-8A7A-4BBC-AD4B-C19B28D0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6A8-EEA6-4D36-AD17-511B62D7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F0A-0848-4F4B-8644-DACC351E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7F2-AC37-4D67-85E3-431612B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77A-59CB-4713-BA37-8F02973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320-3442-430B-BCFE-11133011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EE8-BE0F-42C3-A6E2-C6E6214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6A1-5584-41C3-9022-D60D2AB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2FC-3CAB-4172-8F13-6E71064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ABA-2A5E-4E76-B59A-38490A73588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7865-C99B-4B62-80F2-835A99041D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nance in Educ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tential New Ta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e-Value Tax – a tax on the actual value of the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-Added Tax – a tax on the value of good at each transaction level from production to con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tte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s great a revenue source as publicity would sugg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regressive in nature, since most buyers of tickets are among the members of society who can least afford th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bate continues as to whether the lottery is really a ta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axation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ood tax system should include the following featur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should be coordination among al levels of government with little or no duplication of tax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citizens should pa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payers should be left in the same relative financial position with each other after taxes are pai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ax should be bring a reasonable yield, not b merely a nuisance t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axation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ood taxation system should include the following featur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 erosion should be minimal, regardless of the benefits government owes to deserving citize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 collection should be simple and convenient for tax payers and of little cost to the collecto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ax should be levied on the person or household who pays it-shifting of the tax should be minimiz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ayment of the tax should not cause a major change in the economic practice or vocation of the taxpay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ax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for evaluating a tax syst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fficiency – best when operated with the least economic and social costs and the highest order of services for the money sp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quity – structure should provide the highest degree of fairness in the treatment of the individ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equacy – the system ought to provide enough funds to support the level of public service  that is adopted for the agency in ques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aptability – system should be adaptable to changing economic conditions, social demands for education, and significant changes in edu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fairness of the Property Ta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ident in many 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equal assessment pract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ation without relationship to ownership of the property being tax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equal tax bases per pupil to be educated in various distri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ck of a direct relationship between taxes owed and the amount of wealth or income of the person or household being tax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payer resistance of property tax has increased greatly over the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rcuit Break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pted by states to relieve elderly and low-income people of part of their property tax bur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to assure that the property taxes of people with low incomes will not exceed a stated portion or percent of their annual income, regardless of the value of their property or the tax in effect in their taxing un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sonal Property Ta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nal property taxes such as stocks, bonds, mutual funds, and savings accounts are difficult to coll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use has proven to be somewhat  ineffe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come Ta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come tax is probably the fairest of all tax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usually a progressive tax and should include personal and corporate inco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les Ta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s taxes are effective at the state level but are not readily manageable at the local level, especially in small distric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s taxes are regressive when food items and other necessities are taxed, since low-income families generally spend a higher percentage of their income on necessities that he more affluent 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6:20:47Z</dcterms:created>
  <dc:creator>Cynthia Altemueller</dc:creator>
  <dc:description/>
  <dc:language>en-US</dc:language>
  <cp:lastModifiedBy>AEURY</cp:lastModifiedBy>
  <dcterms:modified xsi:type="dcterms:W3CDTF">2006-01-27T22:12:28Z</dcterms:modified>
  <cp:revision>3</cp:revision>
  <dc:subject/>
  <dc:title>Finance in Education</dc:title>
</cp:coreProperties>
</file>